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.gif" ContentType="image/gif"/>
  <Override PartName="/ppt/media/image12.wmf" ContentType="image/x-wmf"/>
  <Override PartName="/ppt/media/image4.png" ContentType="image/png"/>
  <Override PartName="/ppt/media/image1.gif" ContentType="image/gif"/>
  <Override PartName="/ppt/media/image11.jpeg" ContentType="image/jpeg"/>
  <Override PartName="/ppt/media/image20.gif" ContentType="image/gif"/>
  <Override PartName="/ppt/media/image8.gif" ContentType="image/gif"/>
  <Override PartName="/ppt/media/image18.jpeg" ContentType="image/jpeg"/>
  <Override PartName="/ppt/media/image19.gif" ContentType="image/gif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7.gif" ContentType="image/gif"/>
  <Override PartName="/ppt/media/image5.jpeg" ContentType="image/jpeg"/>
  <Override PartName="/ppt/media/image10.wmf" ContentType="image/x-wmf"/>
  <Override PartName="/ppt/media/image3.wmf" ContentType="image/x-wm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20D-CEF8-4381-94DA-4CA066C9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762-5396-4938-859E-D0EC441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EF6-BACA-4CA6-B0EE-F64BFAA3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430-509D-4B77-95BC-4E2B32DF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5C30-E298-4E08-A28B-26AFAC61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B7C-895F-4A27-A43D-56E9CC47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29D-E758-4E68-B274-59EE5E70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244-5D10-49E2-95E2-E46289C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746-DEB1-48B2-92D4-B44F5A7A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D1B-54F9-4E7F-823F-AA40906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0A8-3E4D-4098-8167-F142D29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ED9-AB13-44DD-870C-BF70C06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75AA-4E06-4592-ADE5-8E458A66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Movies/Chapter%2009A.mpg" TargetMode="External"/><Relationship Id="rId2" Type="http://schemas.openxmlformats.org/officeDocument/2006/relationships/hyperlink" Target="file:///../Movies/Chapter%2009B.mpg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l th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like to run, bike, or swim? These all are good ways to exercise. When you exercise, your body uses oxygen to get energy from glucose, a six-carbon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733920"/>
            <a:ext cx="830592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your body feel at the start of exercise, such as a long, slow run? How do you feel 1 minute into the run; 10 minutes into the ru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you think is happening in your cells to cause the changes in how you fe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k about running as fast as you can for 100 meters. Could you keep up this pace for a much longer distance? Explain your answ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1600200" cy="14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766880" cy="1212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0"/>
            <a:ext cx="1231920" cy="17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ATP molecules must be added to get the reaction star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dered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ATP molecules are produced (4 – 2 = net gain of 2 AT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NADH molecules are also cre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carrier =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+ (nicotinamide adenine dinucleot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high energy electr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electrons to other parts of respi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ycolysis ne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 ATP, 2 NADH, and 2 pyruvic ac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680" y="2254320"/>
            <a:ext cx="7867440" cy="2340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1040" y="3535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46640" y="459756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electron transport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35352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ycolysi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tages vs. 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419360" cy="3200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0080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Occur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an produce 1000s of ATP in a few 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Does not require 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Can occur w/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920" y="1752480"/>
            <a:ext cx="4038480" cy="32004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et gain of only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D+ become filled with electron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n’t make more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5105520"/>
            <a:ext cx="121608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631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aerobic Respiration = Fer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after glycolysis only if no oxygen is avail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DH from glycolysis used, turned back into NAD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back to glyco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glycolysis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s many ATP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it recycles the NAD+ molecules so that the cell can continue to mak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066680"/>
            <a:ext cx="1828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= “without” aerobic = “ai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oxygen, pyruvic acid is broken down to produce alcohol and carbon di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yeasts and a few other mic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alcohol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ke alcoholic beverages and to cause bread dough to 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22400" cy="129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4572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cells, the pyruvic acid that accumulates due to glycolysis is converted to lact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uvic acid + NAD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lactic acid + 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muscles during heavy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tic acid buildup in muscles causes painful, burning sensation = why muscles feel s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karyotes also produce 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ake cheese, yogurt, buttermilk, sour cream, pickles, sauerkraut, and kim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952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28760" y="2109960"/>
            <a:ext cx="8286480" cy="263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3200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2688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7040" y="3124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6419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erobic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cellular respiration?  What is the equation fo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3 stages of cellular respiration in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glycolysis and where does it take place in a cell?  What are the product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advantages and disadvantages of glycoly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anaerobic respiration and what is its pur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mpare and contrast alcoholic fermentation with lactic acid fermen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866520" cy="866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792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apter 9-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Energy &amp;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ourc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al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energy needed to raise 1g of water by 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ori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kcal, or 1000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breakdown food slowly &amp; grad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can’t use food energy direc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t to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at once, too explosive and most energy lost a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ly releases energy of food to make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2971800"/>
            <a:ext cx="1752840" cy="17524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process that releases energy by breaking down glucose and other food molecule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 the presence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olysis, Krebs cycle, Electron Transport Ch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114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762120"/>
            <a:ext cx="51055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6228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8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8772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9728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720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6760" y="271944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1676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2640" y="1812960"/>
            <a:ext cx="29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640" y="1828800"/>
            <a:ext cx="7358040" cy="288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yco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2971800"/>
            <a:ext cx="76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bs cycl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971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rmentation (without oxy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44197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cohol or lactic ac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685800"/>
            <a:ext cx="510552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9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838080" y="762120"/>
            <a:ext cx="8305560" cy="5486040"/>
            <a:chOff x="838080" y="762120"/>
            <a:chExt cx="8305560" cy="548604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514880" y="762120"/>
              <a:ext cx="7225560" cy="54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838080" y="2508120"/>
              <a:ext cx="6400080" cy="3351600"/>
              <a:chOff x="838080" y="2508120"/>
              <a:chExt cx="6400080" cy="3351600"/>
            </a:xfrm>
          </p:grpSpPr>
          <p:sp>
            <p:nvSpPr>
              <p:cNvPr id="86" name=""/>
              <p:cNvSpPr/>
              <p:nvPr/>
            </p:nvSpPr>
            <p:spPr>
              <a:xfrm>
                <a:off x="838080" y="3743280"/>
                <a:ext cx="15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Gluc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98600" y="4028400"/>
                <a:ext cx="86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lycolys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15920" y="5552640"/>
                <a:ext cx="159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ytoplas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044880" y="3140280"/>
                <a:ext cx="1078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yruvic ac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48280" y="2508120"/>
                <a:ext cx="2809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3840" y="3890160"/>
                <a:ext cx="86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rebs Cyc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48480" y="3023280"/>
                <a:ext cx="142020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lectrons carried in NADH and FAD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995440" y="3810240"/>
                <a:ext cx="12427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lectron Transport Cha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00240" y="5213520"/>
                <a:ext cx="17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itochondr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6334200" y="2009880"/>
              <a:ext cx="280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4920" y="228600"/>
            <a:ext cx="6705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: 3 S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1. Glycolysis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ytopla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Krebs Cycle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lectron Transport Chain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itochond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Net vs. G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20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ount of product made minus amount of produc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Made $15.00 babys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.00 for gas to get to babysitting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babysitting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.00 - $5.00 = $15.00 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298440"/>
            <a:ext cx="1219320" cy="97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91480" y="36360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0" y="4191120"/>
            <a:ext cx="1317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wcard Gothic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ss in which one molecule of glucose is broken in half, producing two molecules of pyruvic acid, a 3-carbon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carbon molecule (glucose) to two 3-carbon molecules (pyruv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place 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1600200" cy="1303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40560" y="228600"/>
            <a:ext cx="9954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3:26:29Z</dcterms:created>
  <dc:creator>bpalme</dc:creator>
  <dc:description/>
  <dc:language>en-US</dc:language>
  <cp:lastModifiedBy>Theresa DeLaurentis</cp:lastModifiedBy>
  <dcterms:modified xsi:type="dcterms:W3CDTF">2008-02-25T23:55:39Z</dcterms:modified>
  <cp:revision>13</cp:revision>
  <dc:subject/>
  <dc:title>Chapter 9-1</dc:title>
</cp:coreProperties>
</file>